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ECC-C304-415B-9E0F-BFC33DCAA4A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2FD-6F19-49A6-BDD8-15899B235B1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398-7A23-44BC-ADD7-8099BD95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1F6-56E3-42A8-8401-2E2BAAE0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629-5F1E-4F20-8044-F0DCDA3B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8BB-93EA-4709-9D9E-74B70A6E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FD8-D76E-4878-A304-3C9C97E3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679-1E67-4590-9288-874EE681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135-7E10-41EB-AF75-0F35869F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01C-3236-4236-801E-2C422A2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9D2-6336-40BB-8F14-BB51010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94B-701D-49A7-B31E-A546161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5EA-B34B-422D-B5E2-517D65B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D33-EBB9-4DD9-824C-798F50D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76E1-0981-46FE-A72F-25C32BC4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wo sublevels:  s and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electrons i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different p orbitals, and may hold 2 electrons each—6 tota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of 8 overall in Level 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Orbit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88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3 sublevels:  s, p,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electrons i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electrons i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5 different d orbitals, and 2 electrons can fit in each—total of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of 1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orbita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_orbital"/>
          <p:cNvPicPr/>
          <p:nvPr/>
        </p:nvPicPr>
        <p:blipFill>
          <a:blip r:embed="rId1"/>
          <a:stretch/>
        </p:blipFill>
        <p:spPr>
          <a:xfrm>
            <a:off x="990720" y="1600200"/>
            <a:ext cx="6933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Hydrogen Atomic Orbitals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0280" y="1295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ergy sublevel relates to orbitals of different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1490760" y="2301840"/>
            <a:ext cx="6180120" cy="3489480"/>
            <a:chOff x="1490760" y="2301840"/>
            <a:chExt cx="6180120" cy="3489480"/>
          </a:xfrm>
        </p:grpSpPr>
        <p:pic>
          <p:nvPicPr>
            <p:cNvPr id="88" name="Picture 6" descr="C05-13C-828378-08"/>
            <p:cNvPicPr/>
            <p:nvPr/>
          </p:nvPicPr>
          <p:blipFill>
            <a:blip r:embed="rId1"/>
            <a:stretch/>
          </p:blipFill>
          <p:spPr>
            <a:xfrm>
              <a:off x="1490760" y="2301840"/>
              <a:ext cx="613404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C05-15C-828378-08"/>
            <p:cNvPicPr/>
            <p:nvPr/>
          </p:nvPicPr>
          <p:blipFill>
            <a:blip r:embed="rId2"/>
            <a:stretch/>
          </p:blipFill>
          <p:spPr>
            <a:xfrm>
              <a:off x="1490760" y="4282920"/>
              <a:ext cx="6180120" cy="150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we know what the orbitals and levels are and we know how many electrons each element has, how do we fill them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Orbitals: does not follow logical 1s 2s 3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orbital_energy_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6294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asy way to remember this is to use the periodic table--it is arranged to show how these orbitals are f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Orbitals—Periodic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8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02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angement of electrons in the atom is called the electron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30280" y="23367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fbau principle states that each electron occupies the lowest energy orbital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C05-16C-828378-08"/>
          <p:cNvPicPr/>
          <p:nvPr/>
        </p:nvPicPr>
        <p:blipFill>
          <a:blip r:embed="rId1"/>
          <a:stretch/>
        </p:blipFill>
        <p:spPr>
          <a:xfrm>
            <a:off x="2971800" y="3456000"/>
            <a:ext cx="4152960" cy="294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do not travel around the nucleus of an atom in or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found in energy levels at different distances away from the nucleu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nd of like shells or layer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periodic_tableblank"/>
          <p:cNvPicPr/>
          <p:nvPr/>
        </p:nvPicPr>
        <p:blipFill>
          <a:blip r:embed="rId1"/>
          <a:stretch/>
        </p:blipFill>
        <p:spPr>
          <a:xfrm>
            <a:off x="1041480" y="1041480"/>
            <a:ext cx="8026200" cy="5130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5"/>
          <p:cNvGrpSpPr/>
          <p:nvPr/>
        </p:nvGrpSpPr>
        <p:grpSpPr>
          <a:xfrm>
            <a:off x="833040" y="1889280"/>
            <a:ext cx="2060640" cy="4137480"/>
            <a:chOff x="833040" y="1889280"/>
            <a:chExt cx="2060640" cy="4137480"/>
          </a:xfrm>
        </p:grpSpPr>
        <p:sp>
          <p:nvSpPr>
            <p:cNvPr id="107" name="Text Box 5"/>
            <p:cNvSpPr/>
            <p:nvPr/>
          </p:nvSpPr>
          <p:spPr>
            <a:xfrm>
              <a:off x="833040" y="1889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839160" y="2336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839160" y="2793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839160" y="320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839160" y="365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839160" y="409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839160" y="4556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2571120" y="515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2571120" y="5627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5"/>
          <p:cNvGrpSpPr/>
          <p:nvPr/>
        </p:nvGrpSpPr>
        <p:grpSpPr>
          <a:xfrm>
            <a:off x="1144800" y="1523880"/>
            <a:ext cx="7774920" cy="1739880"/>
            <a:chOff x="1144800" y="1523880"/>
            <a:chExt cx="7774920" cy="1739880"/>
          </a:xfrm>
        </p:grpSpPr>
        <p:sp>
          <p:nvSpPr>
            <p:cNvPr id="117" name="Rectangle 17"/>
            <p:cNvSpPr/>
            <p:nvPr/>
          </p:nvSpPr>
          <p:spPr>
            <a:xfrm>
              <a:off x="1144800" y="15382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160200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205272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3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4400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4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8972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27816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6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373536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7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19256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457380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9546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4118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1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69080" y="2895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2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632628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670716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715824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754560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6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8002800" y="1981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7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>
              <a:off x="8460000" y="15238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8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6"/>
          <p:cNvSpPr/>
          <p:nvPr/>
        </p:nvSpPr>
        <p:spPr>
          <a:xfrm>
            <a:off x="3204360" y="152388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group # = # valence (outside)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3"/>
          <p:cNvGrpSpPr/>
          <p:nvPr/>
        </p:nvGrpSpPr>
        <p:grpSpPr>
          <a:xfrm>
            <a:off x="2057400" y="3154320"/>
            <a:ext cx="4267080" cy="1798560"/>
            <a:chOff x="2057400" y="3154320"/>
            <a:chExt cx="4267080" cy="1798560"/>
          </a:xfrm>
        </p:grpSpPr>
        <p:sp>
          <p:nvSpPr>
            <p:cNvPr id="137" name="Rectangle 45"/>
            <p:cNvSpPr/>
            <p:nvPr/>
          </p:nvSpPr>
          <p:spPr>
            <a:xfrm>
              <a:off x="2057400" y="3200400"/>
              <a:ext cx="4267080" cy="1752480"/>
            </a:xfrm>
            <a:prstGeom prst="rect">
              <a:avLst/>
            </a:prstGeom>
            <a:noFill/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7"/>
            <p:cNvSpPr/>
            <p:nvPr/>
          </p:nvSpPr>
          <p:spPr>
            <a:xfrm>
              <a:off x="3811320" y="3154320"/>
              <a:ext cx="74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66cc"/>
                  </a:solidFill>
                  <a:latin typeface="Arial"/>
                </a:rPr>
                <a:t>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7"/>
          <p:cNvGrpSpPr/>
          <p:nvPr/>
        </p:nvGrpSpPr>
        <p:grpSpPr>
          <a:xfrm>
            <a:off x="6324480" y="2286000"/>
            <a:ext cx="2590920" cy="2286000"/>
            <a:chOff x="6324480" y="2286000"/>
            <a:chExt cx="2590920" cy="2286000"/>
          </a:xfrm>
        </p:grpSpPr>
        <p:sp>
          <p:nvSpPr>
            <p:cNvPr id="140" name="Rectangle 44"/>
            <p:cNvSpPr/>
            <p:nvPr/>
          </p:nvSpPr>
          <p:spPr>
            <a:xfrm>
              <a:off x="6324480" y="2286000"/>
              <a:ext cx="2590920" cy="2286000"/>
            </a:xfrm>
            <a:prstGeom prst="rect">
              <a:avLst/>
            </a:prstGeom>
            <a:noFill/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5"/>
            <p:cNvSpPr/>
            <p:nvPr/>
          </p:nvSpPr>
          <p:spPr>
            <a:xfrm>
              <a:off x="7259400" y="3154320"/>
              <a:ext cx="74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9900cc"/>
                  </a:solidFill>
                  <a:latin typeface="Arial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Oval 56"/>
          <p:cNvSpPr/>
          <p:nvPr/>
        </p:nvSpPr>
        <p:spPr>
          <a:xfrm>
            <a:off x="8305920" y="1676520"/>
            <a:ext cx="761760" cy="76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65"/>
          <p:cNvGrpSpPr/>
          <p:nvPr/>
        </p:nvGrpSpPr>
        <p:grpSpPr>
          <a:xfrm>
            <a:off x="2895480" y="5059440"/>
            <a:ext cx="6019920" cy="1191240"/>
            <a:chOff x="2895480" y="5059440"/>
            <a:chExt cx="6019920" cy="1191240"/>
          </a:xfrm>
        </p:grpSpPr>
        <p:sp>
          <p:nvSpPr>
            <p:cNvPr id="144" name="Rectangle 46"/>
            <p:cNvSpPr/>
            <p:nvPr/>
          </p:nvSpPr>
          <p:spPr>
            <a:xfrm>
              <a:off x="2895480" y="5181480"/>
              <a:ext cx="6019920" cy="91440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8"/>
            <p:cNvSpPr/>
            <p:nvPr/>
          </p:nvSpPr>
          <p:spPr>
            <a:xfrm>
              <a:off x="5634000" y="505944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cc00"/>
                  </a:solidFill>
                  <a:latin typeface="Arial"/>
                </a:rPr>
                <a:t>f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4"/>
          <p:cNvGrpSpPr/>
          <p:nvPr/>
        </p:nvGrpSpPr>
        <p:grpSpPr>
          <a:xfrm>
            <a:off x="1219320" y="1828800"/>
            <a:ext cx="838080" cy="3124080"/>
            <a:chOff x="1219320" y="1828800"/>
            <a:chExt cx="838080" cy="3124080"/>
          </a:xfrm>
        </p:grpSpPr>
        <p:grpSp>
          <p:nvGrpSpPr>
            <p:cNvPr id="147" name="Group 43"/>
            <p:cNvGrpSpPr/>
            <p:nvPr/>
          </p:nvGrpSpPr>
          <p:grpSpPr>
            <a:xfrm>
              <a:off x="1219320" y="1828800"/>
              <a:ext cx="838080" cy="3124080"/>
              <a:chOff x="1219320" y="1828800"/>
              <a:chExt cx="838080" cy="3124080"/>
            </a:xfrm>
          </p:grpSpPr>
          <p:sp>
            <p:nvSpPr>
              <p:cNvPr id="148" name="Rectangle 37"/>
              <p:cNvSpPr/>
              <p:nvPr/>
            </p:nvSpPr>
            <p:spPr>
              <a:xfrm>
                <a:off x="1219320" y="1828800"/>
                <a:ext cx="838080" cy="312408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8"/>
              <p:cNvSpPr/>
              <p:nvPr/>
            </p:nvSpPr>
            <p:spPr>
              <a:xfrm>
                <a:off x="1600200" y="1828800"/>
                <a:ext cx="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39"/>
              <p:cNvSpPr/>
              <p:nvPr/>
            </p:nvSpPr>
            <p:spPr>
              <a:xfrm>
                <a:off x="1600200" y="2286000"/>
                <a:ext cx="4568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47"/>
            <p:cNvSpPr/>
            <p:nvPr/>
          </p:nvSpPr>
          <p:spPr>
            <a:xfrm>
              <a:off x="1356480" y="31543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40"/>
          <p:cNvSpPr/>
          <p:nvPr/>
        </p:nvSpPr>
        <p:spPr>
          <a:xfrm>
            <a:off x="1600200" y="167652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 rot="16200000">
            <a:off x="1828440" y="190476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8458200" y="1828800"/>
            <a:ext cx="45720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9"/>
          <p:cNvSpPr/>
          <p:nvPr/>
        </p:nvSpPr>
        <p:spPr>
          <a:xfrm>
            <a:off x="2520" y="2895480"/>
            <a:ext cx="9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# 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9"/>
          <p:cNvGrpSpPr/>
          <p:nvPr/>
        </p:nvGrpSpPr>
        <p:grpSpPr>
          <a:xfrm>
            <a:off x="1219320" y="2133720"/>
            <a:ext cx="7696080" cy="3733560"/>
            <a:chOff x="1219320" y="2133720"/>
            <a:chExt cx="7696080" cy="3733560"/>
          </a:xfrm>
        </p:grpSpPr>
        <p:sp>
          <p:nvSpPr>
            <p:cNvPr id="157" name="Line 70"/>
            <p:cNvSpPr/>
            <p:nvPr/>
          </p:nvSpPr>
          <p:spPr>
            <a:xfrm>
              <a:off x="1219320" y="2133720"/>
              <a:ext cx="380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1"/>
            <p:cNvSpPr/>
            <p:nvPr/>
          </p:nvSpPr>
          <p:spPr>
            <a:xfrm>
              <a:off x="1219320" y="2514600"/>
              <a:ext cx="761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2"/>
            <p:cNvSpPr/>
            <p:nvPr/>
          </p:nvSpPr>
          <p:spPr>
            <a:xfrm>
              <a:off x="1219320" y="2971800"/>
              <a:ext cx="761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3"/>
            <p:cNvSpPr/>
            <p:nvPr/>
          </p:nvSpPr>
          <p:spPr>
            <a:xfrm>
              <a:off x="1219320" y="3429000"/>
              <a:ext cx="761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4"/>
            <p:cNvSpPr/>
            <p:nvPr/>
          </p:nvSpPr>
          <p:spPr>
            <a:xfrm>
              <a:off x="1219320" y="3886200"/>
              <a:ext cx="761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5"/>
            <p:cNvSpPr/>
            <p:nvPr/>
          </p:nvSpPr>
          <p:spPr>
            <a:xfrm>
              <a:off x="1219320" y="4343400"/>
              <a:ext cx="761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6"/>
            <p:cNvSpPr/>
            <p:nvPr/>
          </p:nvSpPr>
          <p:spPr>
            <a:xfrm>
              <a:off x="1219320" y="4724280"/>
              <a:ext cx="3886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7"/>
            <p:cNvSpPr/>
            <p:nvPr/>
          </p:nvSpPr>
          <p:spPr>
            <a:xfrm>
              <a:off x="2895480" y="5410080"/>
              <a:ext cx="6019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8"/>
            <p:cNvSpPr/>
            <p:nvPr/>
          </p:nvSpPr>
          <p:spPr>
            <a:xfrm>
              <a:off x="2895480" y="5867280"/>
              <a:ext cx="6019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8"/>
          <p:cNvGrpSpPr/>
          <p:nvPr/>
        </p:nvGrpSpPr>
        <p:grpSpPr>
          <a:xfrm>
            <a:off x="1371600" y="1828800"/>
            <a:ext cx="7315200" cy="3124080"/>
            <a:chOff x="1371600" y="1828800"/>
            <a:chExt cx="7315200" cy="3124080"/>
          </a:xfrm>
        </p:grpSpPr>
        <p:sp>
          <p:nvSpPr>
            <p:cNvPr id="167" name="Line 80"/>
            <p:cNvSpPr/>
            <p:nvPr/>
          </p:nvSpPr>
          <p:spPr>
            <a:xfrm>
              <a:off x="1371600" y="1828800"/>
              <a:ext cx="0" cy="3124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"/>
            <p:cNvSpPr/>
            <p:nvPr/>
          </p:nvSpPr>
          <p:spPr>
            <a:xfrm>
              <a:off x="1828800" y="2286000"/>
              <a:ext cx="0" cy="26668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2"/>
            <p:cNvSpPr/>
            <p:nvPr/>
          </p:nvSpPr>
          <p:spPr>
            <a:xfrm>
              <a:off x="22860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3"/>
            <p:cNvSpPr/>
            <p:nvPr/>
          </p:nvSpPr>
          <p:spPr>
            <a:xfrm>
              <a:off x="27432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4"/>
            <p:cNvSpPr/>
            <p:nvPr/>
          </p:nvSpPr>
          <p:spPr>
            <a:xfrm>
              <a:off x="312408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5"/>
            <p:cNvSpPr/>
            <p:nvPr/>
          </p:nvSpPr>
          <p:spPr>
            <a:xfrm>
              <a:off x="358128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6"/>
            <p:cNvSpPr/>
            <p:nvPr/>
          </p:nvSpPr>
          <p:spPr>
            <a:xfrm>
              <a:off x="396252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7"/>
            <p:cNvSpPr/>
            <p:nvPr/>
          </p:nvSpPr>
          <p:spPr>
            <a:xfrm>
              <a:off x="441972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48006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52578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0"/>
            <p:cNvSpPr/>
            <p:nvPr/>
          </p:nvSpPr>
          <p:spPr>
            <a:xfrm>
              <a:off x="571500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6095880" y="3124080"/>
              <a:ext cx="0" cy="18288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655308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693432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739152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784872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6"/>
            <p:cNvSpPr/>
            <p:nvPr/>
          </p:nvSpPr>
          <p:spPr>
            <a:xfrm>
              <a:off x="8229600" y="2286000"/>
              <a:ext cx="0" cy="2209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7"/>
            <p:cNvSpPr/>
            <p:nvPr/>
          </p:nvSpPr>
          <p:spPr>
            <a:xfrm>
              <a:off x="8686800" y="1828800"/>
              <a:ext cx="0" cy="26668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754080" y="1600200"/>
            <a:ext cx="12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60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886200" y="1752480"/>
            <a:ext cx="304920" cy="685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267080" y="1752480"/>
            <a:ext cx="3049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48320" y="1752480"/>
            <a:ext cx="304560" cy="4572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3429000" y="2438280"/>
            <a:ext cx="533520" cy="5335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419720" y="243828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800600" y="2209680"/>
            <a:ext cx="990720" cy="7621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376640" y="2895480"/>
            <a:ext cx="27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ow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ell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ssibilities are 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339000" y="4191120"/>
            <a:ext cx="226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sibiliti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, p, d, or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 sub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5352840" y="274320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ossibiliti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: 1 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: 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: 1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otal e- shoul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137600" y="617220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ement has an electron configuration of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H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3876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26068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04136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106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564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5716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2764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He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63876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26068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04136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211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5652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823000" y="427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22764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Li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63012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25960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2106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5564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716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231960" y="4724280"/>
            <a:ext cx="11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2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iod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638760" y="21337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tomic #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25960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5211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5652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57168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237000" y="4724280"/>
            <a:ext cx="11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2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se questions every time you have to write an electro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ment o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w #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h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oup #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vale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bshell(s) does B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on config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691320" y="2170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omic #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04064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4040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4215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55645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571680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243840" y="472428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2s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47"/>
          <p:cNvSpPr/>
          <p:nvPr/>
        </p:nvSpPr>
        <p:spPr>
          <a:xfrm flipH="1">
            <a:off x="3581280" y="3200400"/>
            <a:ext cx="289584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8"/>
          <p:cNvSpPr/>
          <p:nvPr/>
        </p:nvSpPr>
        <p:spPr>
          <a:xfrm flipH="1">
            <a:off x="4114800" y="3581280"/>
            <a:ext cx="23623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 flipH="1">
            <a:off x="3580920" y="3276720"/>
            <a:ext cx="20574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0"/>
          <p:cNvSpPr/>
          <p:nvPr/>
        </p:nvSpPr>
        <p:spPr>
          <a:xfrm flipH="1">
            <a:off x="3581280" y="2743200"/>
            <a:ext cx="198144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1"/>
          <p:cNvSpPr/>
          <p:nvPr/>
        </p:nvSpPr>
        <p:spPr>
          <a:xfrm flipH="1">
            <a:off x="3580920" y="2743200"/>
            <a:ext cx="129564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2"/>
          <p:cNvSpPr/>
          <p:nvPr/>
        </p:nvSpPr>
        <p:spPr>
          <a:xfrm flipH="1">
            <a:off x="3580920" y="2286000"/>
            <a:ext cx="129564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3"/>
          <p:cNvSpPr/>
          <p:nvPr/>
        </p:nvSpPr>
        <p:spPr>
          <a:xfrm flipH="1">
            <a:off x="3580920" y="2286000"/>
            <a:ext cx="7621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4"/>
          <p:cNvSpPr/>
          <p:nvPr/>
        </p:nvSpPr>
        <p:spPr>
          <a:xfrm flipH="1">
            <a:off x="3580920" y="1905120"/>
            <a:ext cx="6858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Electron Subshell Filling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go “in o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438000" y="1981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438000" y="2438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123800" y="2438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4123800" y="2895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123800" y="33526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123800" y="38098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4123800" y="4267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4123800" y="4724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438000" y="2895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438000" y="33526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438000" y="38098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3438000" y="4267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343800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4829400" y="28954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4816440" y="3352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816440" y="38098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4816440" y="42670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5599800" y="33526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599800" y="38098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541800" y="6051600"/>
            <a:ext cx="5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92016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130140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216972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176148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255060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343512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381564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2936880" y="6051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473364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4"/>
          <p:cNvSpPr/>
          <p:nvPr/>
        </p:nvSpPr>
        <p:spPr>
          <a:xfrm>
            <a:off x="514116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4202280" y="6051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6486120" y="6051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6884280" y="6051600"/>
            <a:ext cx="5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5954760" y="6051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5527800" y="6051600"/>
            <a:ext cx="5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8235720" y="6080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7707240" y="608004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7280280" y="6051600"/>
            <a:ext cx="5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Electron Subshell Filling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go “in o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3438000" y="1981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3438000" y="2438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4123800" y="2438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4123800" y="2895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4123800" y="33526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4123800" y="38098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4123800" y="4267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4123800" y="4724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438000" y="2895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3438000" y="33526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3438000" y="38098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3438000" y="4267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3438000" y="47242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4829400" y="28954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4816440" y="3352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4816440" y="38098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4816440" y="42670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5599800" y="33526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599800" y="38098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e have to pass H to get to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890800" y="2249640"/>
            <a:ext cx="336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533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The Quantum Mechanical Model of the Atom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02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 function predicts a three-dimensional region around the nucleus called the atomic orb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05-11C-828378-08"/>
          <p:cNvPicPr/>
          <p:nvPr/>
        </p:nvPicPr>
        <p:blipFill>
          <a:blip r:embed="rId1"/>
          <a:stretch/>
        </p:blipFill>
        <p:spPr>
          <a:xfrm>
            <a:off x="1442880" y="2666880"/>
            <a:ext cx="6240600" cy="336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y to write the electron configuration for the first 20 in your table grou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Hydrogen Atomic Orb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9480" y="2666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quantum numbe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dicates the relative size and energy of atomic orb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09480" y="41148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es the atom’s major energy levels, called the principal energ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480" y="1676520"/>
            <a:ext cx="7467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cannot exist between energy leve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st like the rungs of a ladd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s are broken up into sub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least 4 possible types of sublevels—given labels: s, p, d, o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142"/>
                </a:solidFill>
                <a:latin typeface="Arial"/>
              </a:rPr>
              <a:t>Hydrogen Atomic Orbitals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0280" y="1295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ublevels are contained within the principal energ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05-12C-828378-08"/>
          <p:cNvPicPr/>
          <p:nvPr/>
        </p:nvPicPr>
        <p:blipFill>
          <a:blip r:embed="rId1"/>
          <a:stretch/>
        </p:blipFill>
        <p:spPr>
          <a:xfrm>
            <a:off x="1401840" y="2581200"/>
            <a:ext cx="62863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certain number of electrons may exist in an energy level, but the number varies.  It can be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electrons in level = 2 x (# of energy level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1 = 2 (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2 = 2 (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3 =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evel 4 =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Energy Leve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nergy level, electrons fill sublevels in a certain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has one s sublevel (a spherical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electrons may fit in this sublevel--each one has an opposite “spin”, allowing them to take up the same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uli exclusion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no more than 2 electrons may be found in the same orbital (“orbital” means a particular locatio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-Orbit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s"/>
          <p:cNvPicPr/>
          <p:nvPr/>
        </p:nvPicPr>
        <p:blipFill>
          <a:blip r:embed="rId1"/>
          <a:stretch/>
        </p:blipFill>
        <p:spPr>
          <a:xfrm>
            <a:off x="1905120" y="1447920"/>
            <a:ext cx="41907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06:48Z</dcterms:created>
  <dc:creator>Default User2</dc:creator>
  <dc:description/>
  <dc:language>en-US</dc:language>
  <cp:lastModifiedBy>Sean</cp:lastModifiedBy>
  <dcterms:modified xsi:type="dcterms:W3CDTF">2016-11-15T21:15:30Z</dcterms:modified>
  <cp:revision>22</cp:revision>
  <dc:subject/>
  <dc:title>Electron Configuration Notes</dc:title>
</cp:coreProperties>
</file>